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6D8-4F89-4A46-A6E4-7CE8A10A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306-37D3-4FBB-A859-596ED808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C828-3B4F-4946-8FCB-FCFEC0C7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1E2-8065-48CF-84B6-52D49BFA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DA2-5579-4709-B137-382CC04E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80C1-D4FC-460D-8720-C60291D2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016E-6B20-4077-B13D-62969A6B0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F1F2-BFA2-4D57-9307-683461DD5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80F3-0F41-4E69-9552-689CDDEA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067-C2C2-48F1-B488-6D4026E2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4D43-9AE5-49E9-B1A6-C6E85BBC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14B-5907-4961-B3EB-4E270AD1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8A1-2CC7-461A-9AAA-D04DFEE1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1BF-0E1C-4FBA-97C2-19F174E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BAF-F2E0-42D4-89E7-38AF8A56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0F6-1C9D-4E81-87E6-16CE329F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697-229A-4D6A-9935-97A22F5F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7EB-1E92-4005-8428-1EEC492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12C-0DDB-43E5-937A-8425C6E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2F3-FE44-400D-93C4-06CE8A98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96A-6400-4BBF-BEB3-91FE1902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B9A-97D6-4A83-99FD-84E1017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D6D-8D0A-46EC-87FC-292982F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082-ECC1-48A0-AFDE-4111AED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153-4F47-4E1A-925F-C3EDCF18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Greenhouse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plain how natural processes involving greenhouse gases cause warming of Earth’s atmosphe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a greenhouse to the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320" y="1219320"/>
          <a:ext cx="8991360" cy="5387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il, plants, other surfaces in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lar 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eat insid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lection of visible light off th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Vents in th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a greenhouse and the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628640"/>
          <a:ext cx="8991360" cy="416268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83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32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reenhouse G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12254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nergy Transf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jason.org/uploads/PublicUploads/CuteSoft/EnergyTransfer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EnergyTransfer.jpg"/>
          <p:cNvPicPr/>
          <p:nvPr/>
        </p:nvPicPr>
        <p:blipFill>
          <a:blip r:embed="rId1"/>
          <a:stretch/>
        </p:blipFill>
        <p:spPr>
          <a:xfrm>
            <a:off x="838080" y="946080"/>
            <a:ext cx="760104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blog.savcds.org/harrison/files/2010/03/675px-EM_Spectrum_Properties_edit.svg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675px-EM_Spectrum_Properties_edit.png"/>
          <p:cNvPicPr/>
          <p:nvPr/>
        </p:nvPicPr>
        <p:blipFill>
          <a:blip r:embed="rId1"/>
          <a:stretch/>
        </p:blipFill>
        <p:spPr>
          <a:xfrm>
            <a:off x="285840" y="888840"/>
            <a:ext cx="8572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3200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Solar radiation enters the Earth’s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’s surface converts solar radiation into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 radiates heat to atm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Gases in atmosphere absorb the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pic.greenhouse_effect.jpg"/>
          <p:cNvPicPr/>
          <p:nvPr/>
        </p:nvPicPr>
        <p:blipFill>
          <a:blip r:embed="rId1"/>
          <a:stretch/>
        </p:blipFill>
        <p:spPr>
          <a:xfrm>
            <a:off x="3463920" y="685800"/>
            <a:ext cx="56800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reaches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Visible Light and UV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is re-radiated by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Infrar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Tar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eenhouse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320" y="1371600"/>
          <a:ext cx="8991360" cy="5181480"/>
        </p:xfrm>
        <a:graphic>
          <a:graphicData uri="http://schemas.openxmlformats.org/drawingml/2006/table">
            <a:tbl>
              <a:tblPr/>
              <a:tblGrid>
                <a:gridCol w="4533840"/>
                <a:gridCol w="445752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il, plants, other surfaces in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lar 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eat insid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lection of visible light off th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Vents in th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7:17:11Z</dcterms:created>
  <dc:creator>Julie Libarkin</dc:creator>
  <dc:description/>
  <dc:language>en-US</dc:language>
  <cp:lastModifiedBy>Nicole LaDue</cp:lastModifiedBy>
  <dcterms:modified xsi:type="dcterms:W3CDTF">2010-12-16T18:39:42Z</dcterms:modified>
  <cp:revision>307</cp:revision>
  <dc:subject/>
  <dc:title>PowerPoint Presentation</dc:title>
</cp:coreProperties>
</file>